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0198-58DD-4AAD-80A1-09E929D4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30B2-35F0-4022-97A2-F049C415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07DA-C5FD-49C5-BA55-E8C6D774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D83-4D08-4317-B2E9-E7EE4858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1AD-5F1B-4A05-A01F-14475450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B22B-F7E5-4C7F-98D1-7E6C1B45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764-72F8-4543-A1BB-080B7D21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25A6-04F7-40CD-A2D8-E2958ACB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70EC-C65A-43E0-8FEE-1DC2EB4B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819B-77DA-4C22-BFE8-3F8582C7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BF65-2818-49DA-BD94-2AF8DECB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F649-8D0C-4635-A9FF-6FD4B95C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FCC2-C9C0-4B44-B95E-EC16103D6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teorological Services Department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Zimbabw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Kap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5 August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MSD Synoptic &amp; Climate S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45" name="Picture 5" descr="C:\Users\WMO Office\Documents\WIGOS ZIMBABWE\MSD Synoptic &amp; Climate Stations.jpg"/>
          <p:cNvPicPr/>
          <p:nvPr/>
        </p:nvPicPr>
        <p:blipFill>
          <a:blip r:embed="rId1"/>
          <a:srcRect l="14874" t="0" r="19891" b="0"/>
          <a:stretch/>
        </p:blipFill>
        <p:spPr>
          <a:xfrm>
            <a:off x="1295280" y="1447920"/>
            <a:ext cx="6019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MSD Automatic Weather S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48" name="Picture 2" descr="C:\Users\WMO Office\Documents\WIGOS ZIMBABWE\MSD AWS.jpg"/>
          <p:cNvPicPr/>
          <p:nvPr/>
        </p:nvPicPr>
        <p:blipFill>
          <a:blip r:embed="rId1"/>
          <a:srcRect l="14874" t="0" r="21326" b="0"/>
          <a:stretch/>
        </p:blipFill>
        <p:spPr>
          <a:xfrm>
            <a:off x="1295280" y="1905120"/>
            <a:ext cx="6096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Rainfall S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51" name="Picture 2" descr="C:\Users\WMO Office\Documents\WIGOS ZIMBABWE\Rainfall Stations.jpg"/>
          <p:cNvPicPr/>
          <p:nvPr/>
        </p:nvPicPr>
        <p:blipFill>
          <a:blip r:embed="rId1"/>
          <a:srcRect l="14158" t="0" r="19891" b="0"/>
          <a:stretch/>
        </p:blipFill>
        <p:spPr>
          <a:xfrm>
            <a:off x="1523880" y="1905120"/>
            <a:ext cx="6019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ZINWA 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54" name="Picture 2" descr="C:\Users\WMO Office\Documents\WIGOS ZIMBABWE\ZINWA STATIONS.jpg"/>
          <p:cNvPicPr/>
          <p:nvPr/>
        </p:nvPicPr>
        <p:blipFill>
          <a:blip r:embed="rId1"/>
          <a:srcRect l="12007" t="0" r="21326" b="0"/>
          <a:stretch/>
        </p:blipFill>
        <p:spPr>
          <a:xfrm>
            <a:off x="1523880" y="1905120"/>
            <a:ext cx="6248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ZIMNAT 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27525" t="13543" r="15079" b="6250"/>
          <a:stretch/>
        </p:blipFill>
        <p:spPr>
          <a:xfrm>
            <a:off x="1295280" y="1600200"/>
            <a:ext cx="6400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OXFAM 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60" name="Picture 2" descr="C:\Users\WMO Office\Documents\WIGOS ZIMBABWE\Oxfam Stations.jpg"/>
          <p:cNvPicPr/>
          <p:nvPr/>
        </p:nvPicPr>
        <p:blipFill>
          <a:blip r:embed="rId1"/>
          <a:srcRect l="12007" t="0" r="19891" b="0"/>
          <a:stretch/>
        </p:blipFill>
        <p:spPr>
          <a:xfrm>
            <a:off x="1447920" y="1905120"/>
            <a:ext cx="624816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Network of Network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rcRect l="25184" t="12500" r="25037" b="12500"/>
          <a:stretch/>
        </p:blipFill>
        <p:spPr>
          <a:xfrm>
            <a:off x="1295280" y="1143000"/>
            <a:ext cx="6477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7 Manual Stations (Synoptic and Climat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 Upper Air Station (4 requir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2 Stations on G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8 MSD Automatic Weather St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1 Automatic Weather Stations with Partn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9 Automatic Weather Stations against 150 requir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lt;250 rainfall station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3 of the 47 Stations on the OSCAR/Surface Platfor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5T09:27:45Z</dcterms:created>
  <dc:creator>AWOS</dc:creator>
  <dc:description/>
  <dc:language>en-US</dc:language>
  <cp:lastModifiedBy>AWOS</cp:lastModifiedBy>
  <dcterms:modified xsi:type="dcterms:W3CDTF">2018-08-15T09:51:05Z</dcterms:modified>
  <cp:revision>5</cp:revision>
  <dc:subject/>
  <dc:title>Meteorological Services Department   Zimbabwe</dc:title>
</cp:coreProperties>
</file>